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DA4-2B09-48B6-9551-E283BACC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7AC-281C-4FA6-918A-275DF069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5B6-B9E4-45AE-A82D-EE26B208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CAC-6640-468C-92AB-C19AFEA8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651D-6531-4957-AC28-83DE2A41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E444-C9E0-4AD3-A5B4-718287E2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08FC-9109-4EA8-9E7E-90F1C85C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7CCA-F72B-4F96-A67F-679F17EC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D96B-D051-49E9-8311-70884C67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11D0-550A-4977-987E-D72F9B16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8F5C-85B2-4892-8982-328E37AC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957-0A59-4322-972E-13493A66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4C10-FAD9-4D11-9150-0FCA095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4FF0-96FD-44B7-A6B7-9093FC25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B5AD-52A6-450D-849E-0E6E9F85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CD3A-BB47-4E50-AF11-D54C0D805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38E1-3345-4FC2-8EAE-00D99766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FC4-EF1A-4C69-A1B1-AA0E26DB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C37-64E8-4895-A30D-4A6482EA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7D58-C9F7-4D6D-B36D-D0CFBB34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E68-5F70-46B1-827A-F65FD754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DC0F-9602-4F4D-91F9-D8E4FEC3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8EB-FCDB-4FBE-B7B1-DD77DD92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3B4-B7FF-4FB9-AC3B-56C6669A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37E8-751A-40F0-83C7-A97907C7D9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5B29-4B1D-409D-B941-D0EC128E146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Unit 4C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and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ilding Cohesion in Societ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st majority of people abide by the law, do nice things for each other and work for social change and jus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ws covers more negative than positive events, movies and TV usually explore the dark side of human na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uilding Cohesion in Society - continue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0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truism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untarily giving more than what can be expected in retu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ro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facing personal danger while helping another for no personal rew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553080" y="990720"/>
            <a:ext cx="183384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257800" y="3637080"/>
            <a:ext cx="3657600" cy="2398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181480" y="2819520"/>
            <a:ext cx="174636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Holocaust Rescuers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features in comm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19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ng sense of right and w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lt a moral responsibility to help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ke of at least one parent with high moral values who influenced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ied strongly with victims – knew them, had been persecu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ong sense of adventure – no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75248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23702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ovidio and Gaertner </a:t>
            </a:r>
            <a:r>
              <a:rPr b="0" lang="en-US" sz="2400" spc="-1" strike="noStrike">
                <a:solidFill>
                  <a:srgbClr val="006633"/>
                </a:solidFill>
                <a:latin typeface="Garamond"/>
              </a:rPr>
              <a:t>(University of Delaware)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year study of altru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only one witness – he/she helped 83-95% of time, regardless of r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hite subjects believed there were 2 other witne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ed the black victim 38% of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ed the white victim 75% of th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ther Factors increasing Altruis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ling of guilt about some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m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rushed fo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explain road 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in selection – animals (and humans) help those who are closely rel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reading and continuing genes similar to one’s 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roving Cohesion in Cana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er mediation and conflict resolution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place (OC Transpo shooting - recommend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assment poli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gnition that non-physical violence is equally dam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vention – after crime is committed is too l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2:53:54Z</dcterms:created>
  <dc:creator>The Owner</dc:creator>
  <dc:description/>
  <dc:language>en-US</dc:language>
  <cp:lastModifiedBy>Customer</cp:lastModifiedBy>
  <dcterms:modified xsi:type="dcterms:W3CDTF">2010-12-06T19:22:02Z</dcterms:modified>
  <cp:revision>2</cp:revision>
  <dc:subject/>
  <dc:title>Unit 4C</dc:title>
</cp:coreProperties>
</file>